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75302-3382-4B16-BD81-365E2A9C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829CD-41C0-452B-BC6F-03F612F3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88458-3E74-43D8-A89B-AAFE0378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F6FAA-9B91-4BD0-9AF6-1D14A553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88DD-2409-4438-B9F8-7E990462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0622-DA84-46C6-A1B4-DC463D4C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E83D-81C5-4077-ADD6-81FA45AB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4A88-D83E-4ADC-90CA-A6368695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DC07-7CFB-42F0-9535-0D8C07D4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91FF-E3A4-4A1D-8E2C-306AEA80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9B1D-8A6B-489A-AEAA-DD3BD56D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ED5E2-2591-43E0-B2AB-2DBBEA5D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91B1-A195-4ABE-9387-8BA57D9D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6BF5-D0C8-451A-B848-E3E5FAFD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8429-AFCE-4945-921C-373A785D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0493-EC06-463E-82C0-F8D20CE8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A887-5203-41D9-9839-A933E4DF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2A812-E944-417D-805A-6FB3D84F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9ED2-4133-4846-8BF2-FC87B7C3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0DF63-E116-406E-A73B-9C5917FE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AE10-87A3-4C1C-BA6A-DA2E1827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E58CD-94EF-434D-B729-D9982BC1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B6E11-4569-4703-9359-F9CBB5E3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6E309-F529-4368-972C-B37CBAC0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D311-8467-4417-87AC-057CD1FE84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4636-5E9D-4B8F-8C85-0542005BDD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a casa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Jason A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Mans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mansion. Es muy grande y moder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08660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coci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cocina. Es muy monderno y fabulos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modern kitchen decorating for minimalist home design"/>
          <p:cNvPicPr/>
          <p:nvPr/>
        </p:nvPicPr>
        <p:blipFill>
          <a:blip r:embed="rId1"/>
          <a:stretch/>
        </p:blipFill>
        <p:spPr>
          <a:xfrm>
            <a:off x="1447920" y="2590920"/>
            <a:ext cx="594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Comed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comedor. Es muy incredible y bonit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800600" cy="26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sala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sala. Es muy lujoso y grand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7150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bań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ańo. Es muy grande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41148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cuar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cuarto. Es muy bello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33720" y="2684520"/>
            <a:ext cx="41907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pat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patio. Es muy fabulos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381024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garaj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garaje. Es muy moderno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4429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8:54Z</dcterms:created>
  <dc:creator>armsjas</dc:creator>
  <dc:description/>
  <dc:language>en-US</dc:language>
  <cp:lastModifiedBy>armsjas</cp:lastModifiedBy>
  <dcterms:modified xsi:type="dcterms:W3CDTF">2011-10-25T15:58:06Z</dcterms:modified>
  <cp:revision>6</cp:revision>
  <dc:subject/>
  <dc:title>La casa </dc:title>
</cp:coreProperties>
</file>